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FDA-2565-44BF-81C8-C3AFDB6D6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E13-85E4-4B02-B49D-EC7283F7E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198-BA34-44F0-9321-083A2AD4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C3A-883C-46C5-8DC9-E01B94B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DC4-D07D-46EA-BF9F-4135C888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B60-7C67-4FB4-8C3C-F42A1D6B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5BD-9AC4-46D5-80F2-A237395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367-9B28-4008-8ADA-616F558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4C3-5A9F-40FB-A33C-B944097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285-68FF-424F-82EB-F943A00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847-CF6A-4C7E-B61A-28A67F2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322-0010-4AA8-A9D9-F152D52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AC5-59F7-4A50-AEA0-78D65EE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B2B-96B2-43DD-9E2B-4B0C0B4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B70-72C7-483D-81B4-C0CE87367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09480"/>
            <a:ext cx="8610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нновацио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хнолог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 уроках англий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35370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заверш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 данном эта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яется демонстрация полученных результа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щит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тем пров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607080" y="3452760"/>
            <a:ext cx="1104840" cy="1720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7170840" y="1273320"/>
            <a:ext cx="1447560" cy="208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tretch/>
        </p:blipFill>
        <p:spPr>
          <a:xfrm>
            <a:off x="7678800" y="4495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Scrum -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анд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мун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ит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Личный достижения ав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онлайн тестирование по теме «Применение методик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», диплом 1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ление об использование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технологии на уроках английского языка в рамках сеанса В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заочный конкурс педагогического мастерства РостОК , организованный ГАОУ «РОЦ», г.Казань, диплом победителя 2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публиканского конкурса «Современные подходы к организации воспитательно - образовательного процесса в соответствии с ФГОС», г. Наб.Челны, диплом 3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льные педагогические чтения, г. Чистополь, диплом побе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технологи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для реал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ние команды со своими идеями, огромным опытом и безграничной энергией, идущей в ногу со временем, стремящейся к достижению лучших результатов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304920"/>
            <a:ext cx="8458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ть учащимся возможность научиться уч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ысить мотивацию к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рактическая значимос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рока поможет в проведении проектных уроков/занятий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68160" y="304920"/>
            <a:ext cx="8458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етод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crum-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дготовительный 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мысло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ребования к конечному проду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роки и формы прие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6324480" y="141444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7381800" y="3352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рганизация учащихся                    в проектн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бор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накомство с «маршрутным лис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ределение задач (реализации) спри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формление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-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6586560" y="61128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7458120" y="375300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ащиеся, раб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 командах, выполняют различ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ча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енной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е члены команды е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во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491240" y="1828800"/>
            <a:ext cx="11052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202440" y="419040"/>
            <a:ext cx="14475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6997680" y="32878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09:48:58Z</dcterms:created>
  <dc:creator>Администратор</dc:creator>
  <dc:description/>
  <dc:language>en-US</dc:language>
  <cp:lastModifiedBy>Пользователь Windows</cp:lastModifiedBy>
  <dcterms:modified xsi:type="dcterms:W3CDTF">2022-03-29T12:41:2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